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E36F-2DE8-48D8-ACCB-233604FB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2379-E97B-4394-A362-0A52D217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3375-0823-42DD-83E5-21F62D639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BA57-EFE2-4717-AE7D-834C21BC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5CC0-12AF-4858-8D35-ABEA6883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78F0-5B3E-4C91-BC6B-89ACDA9A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07A9-C46A-430F-B199-B12657DF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541B-769E-4E8F-8B57-A93AB047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ECC5-5539-4000-AAE0-C210CF50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3A17-82CB-4B70-B95E-2CF6FF71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B9A2-70F5-40DE-B22E-CE9D54A4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5E48-5E24-40B9-9993-1083F225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A316-6618-4EB4-8C75-B3C8B4AA012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Marker Board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Brigh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Bright"/>
              </a:rPr>
              <a:t>You should have a marker board, a marker, and a paper towel to erase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Brigh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Bright"/>
              </a:rPr>
              <a:t>Ready???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Bright"/>
              </a:rPr>
              <a:t>GO!!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11de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#5 - A 250.0 mL oxygen sample is measured at 25.0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 and 720.0 mm Hg. 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How many moles is this?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0.00968 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moles O</a:t>
            </a:r>
            <a:r>
              <a:rPr b="0" lang="en-US" sz="8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af42f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09680" y="304560"/>
            <a:ext cx="822960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#6 – 560.0 mL of nitrogen are measured at 28.0</a:t>
            </a:r>
            <a:r>
              <a:rPr b="0" lang="en-US" sz="66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C and 1.50 atm.  Calculate the volume under STP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119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3181320"/>
            <a:ext cx="8229600" cy="29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762 mL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294840"/>
            <a:ext cx="8229600" cy="58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#7 - Determine how many liters 8.80 g carbon dioxide gas would occupy at STP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9680" y="68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6560" y="2286000"/>
            <a:ext cx="822960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4.48 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050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85840" y="39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 - A balloon is filled with 3 gases:  nitrogen, oxygen, and hydrogen.  The total pressure of the gases is 8.51 atm.  If the partial pressure of nitrogen is 3.84 atm, and the partial pressure of oxygen 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20 atm, calculate the partial pressure of hydroge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00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nswer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52440" y="2028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Partial pressure of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hydrogen = 2.47 atm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9960" y="28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#2 - A sample of gas is 7.89 L at 293 K.  </a:t>
            </a:r>
            <a:r>
              <a:rPr b="0" lang="en-US" sz="6600" spc="-1" strike="noStrike" u="sng">
                <a:solidFill>
                  <a:srgbClr val="000000"/>
                </a:solidFill>
                <a:uFillTx/>
                <a:latin typeface="Calibri"/>
              </a:rPr>
              <a:t>How many degrees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must the temperature decrease to change the volume to 6.00 L?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99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70 K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t will change from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93 K to 223 K,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hich is a difference of 70 K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47840" y="276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#3 - A piston filled with oxygen gas has a pressure of 240.0 mm Hg at 225 mL.  If the pressure is decreased to 0.150 atm, what will be the new volume of the ga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6120" y="71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Answer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24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474 mL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Don’t forget to change P1 to atm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33200" y="304920"/>
            <a:ext cx="850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#4 - A sample of gas at 150.0 K has a pressure of 900.0 mm Hg.  It is cooled until the pressure reads 700.0 mm Hg.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hat is the new temperature in both Kelvin and degrees Celsiu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nswer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116.7 K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nd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-156.3</a:t>
            </a:r>
            <a:r>
              <a:rPr b="0" lang="en-US" sz="6000" spc="-1" strike="noStrike" baseline="30000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19:14:56Z</dcterms:created>
  <dc:creator>r.eash</dc:creator>
  <dc:description/>
  <dc:language>en-US</dc:language>
  <cp:lastModifiedBy>MO043</cp:lastModifiedBy>
  <dcterms:modified xsi:type="dcterms:W3CDTF">2011-02-17T21:23:23Z</dcterms:modified>
  <cp:revision>165</cp:revision>
  <dc:subject/>
  <dc:title>Slide 1</dc:title>
</cp:coreProperties>
</file>